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8C5-6E79-40C7-B3CC-6DCE2222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9A3-89ED-4FCB-A416-DE712950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05C-1178-45A7-9662-B4AFC101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548-2177-4DEA-9D74-20AE5E0C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913-6A8D-4492-BECD-FCA6B1B9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3291-9600-4911-AF84-386EE175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E11-13FB-4DDF-89DC-D91E57A2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686-FCFE-4192-A6C5-09EDE532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57DD-D458-41CA-BB5E-5F7795B3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66B-775E-4380-BFE5-6DD4C313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5EE-7954-40F4-A4A1-45A98C6F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E5B-E5CE-4A22-BEF0-6BF8C857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ACCE-C549-4A66-ADAC-F9CC9DCE5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ooz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you sleep better with or without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find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Results w/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905120"/>
          <a:ext cx="7467480" cy="4343040"/>
        </p:xfrm>
        <a:graphic>
          <a:graphicData uri="http://schemas.openxmlformats.org/drawingml/2006/table">
            <a:tbl>
              <a:tblPr/>
              <a:tblGrid>
                <a:gridCol w="1795320"/>
                <a:gridCol w="2611440"/>
                <a:gridCol w="3060720"/>
              </a:tblGrid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long w/ mu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long w/out mu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th 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H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y 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dy 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ldn’t sl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People Sleep Better With or Without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leeping with music help you sleep or just keep you up all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om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omnia is a sleeping disorder that keeps you up when you are trying to go to sl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omnia usually affects people over the age of 65 but it also can happen at a young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ix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Stereo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B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night go to bed at 10:00 p.m. and sleep with soft music see how long it takes to fall asl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night I will go to sleep at the same time but I will not listen to any music and see how long it takes me to fall asl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=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= Time to fall a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= Go to bed at same tim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und out that I fall asleep faster with music than without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only took me 5 minutes to fall asleep with music but, took me 15 minutes to fall asleep without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4648320"/>
            <a:ext cx="594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y results I will fall asleep faster with music than with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go home and try my little experiment and see which helps you fall asleep faster with or without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can do it to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you need to do is get your own b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some music to listen to listen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see how long it takes to fall a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0:02:15Z</dcterms:created>
  <dc:creator>USD376</dc:creator>
  <dc:description/>
  <dc:language>en-US</dc:language>
  <cp:lastModifiedBy>STERLING  USD376</cp:lastModifiedBy>
  <cp:lastPrinted>2010-04-30T13:59:35Z</cp:lastPrinted>
  <dcterms:modified xsi:type="dcterms:W3CDTF">2010-05-03T14:24:07Z</dcterms:modified>
  <cp:revision>10</cp:revision>
  <dc:subject/>
  <dc:title>Do People Sleep Better With or Without Music</dc:title>
</cp:coreProperties>
</file>